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044-7C5E-4A32-B8D9-A63D867E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760-7553-403A-94CA-9AF5C1A9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86E-9B0D-412C-B513-8C1BBA36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551-1CD4-42DC-A529-097498DB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49D0-2065-4605-8955-B42A79D3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AE4A5-5FD3-4084-9B07-128479D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2CD76-8A9E-4F14-ACC7-8577B4C7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9D4F8-9327-4984-BDB8-A54A053D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89C2B-E85C-49BD-A149-A0BECEA7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76506-902B-46B0-8BD3-C5CF70C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06D53-6BDF-4BDD-9EC5-1EB64AF8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173-82B7-4F48-A21E-2F544AE1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633F-B49A-4C20-94F3-E5FB28C4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AFA44-9136-49E0-960E-E3E569F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1E571-BEBC-4F05-8C0F-AFF8DDD5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54F0-9768-46F9-9D4F-C3CDAEC5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30E99-D031-4A6D-AA96-2725D087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BF7A-70E1-4F56-96BE-851DF671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967A-7B1B-4F6B-B15B-85A4E98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EF7F-8C31-406D-9597-F5B5752C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6CCE-B6E9-4430-AD64-2655A7A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8B93A-3E01-4219-991F-A46E25B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4C9-772F-4962-8C6B-3A1F2F1E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C74A-2C60-41FC-8E5A-E7CD28A9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DC47-9D1F-4AF1-94FF-9B671CF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8C9C-0205-4931-A8AF-5760EC8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20C6-407F-4C7D-BE17-A37D6EF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EA795-F2D9-44E4-AE92-592A0248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96BE-A60E-4DCC-8939-D2127233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C26F-23E5-479C-92CD-5FDC6708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3CCB-A33D-4736-BFCF-1E7B15E3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6173-9F26-4E99-814E-35F67EFF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BFC1-A948-49D5-8BB7-31ED92F7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5A6-4D33-4547-BEA2-71E24506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6BFF-0715-4554-B276-5FE29DF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DB7B-88F0-4E5B-ACEF-8EF4006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21B70-FF3D-46E3-B57A-850A595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0A43-551C-4844-96A5-C90C71D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9876-B8F4-4A18-80B9-590E2B7F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FABF-7F99-4ACE-B37B-BFF37FE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11E1-29A1-41C3-AF31-0B7D08E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924E-DA94-4451-9730-D37CC17D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7340-F600-4B78-801B-A6E93673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693-55D6-4AA4-A7F8-1298DB7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DF2-C882-4C2D-BE75-C731B1D9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80C-D739-4BC2-8D09-09594F5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426-9D64-445E-A1A4-01FC6354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BAC-A360-4B75-A3BC-EAF7DBC0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628D-BC52-4151-96B1-AAA2D10C1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009-68F2-463A-90FA-260B4C6A3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102F-F75B-44D8-BFCC-99EDF8C33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D078-9214-42CB-882A-D15BFA565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Joanna MT"/>
              </a:rPr>
              <a:t> </a:t>
            </a:r>
            <a:r>
              <a:rPr b="0" lang="en-US" sz="7200" spc="-1" strike="noStrike">
                <a:solidFill>
                  <a:srgbClr val="ffcc00"/>
                </a:solidFill>
                <a:latin typeface="Joanna MT"/>
              </a:rPr>
              <a:t>Me Vacacion en Puerto Rico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Joanna MT"/>
              </a:rPr>
              <a:t>Por: Amanda DeBone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466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Script MT Bold"/>
              </a:rPr>
              <a:t>Mi Hotel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Nico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sotros lle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amos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i hotel, el Caribre Hilton hoy .Es muy grande y elegante.Tiene una piscina y un balenario. Tiene una playa bonita, tambien. La agua es muy caliente. Los ojos son peq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y la arena es muy suave! Hasta luego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00400" y="426708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Script MT Bold"/>
              </a:rPr>
              <a:t>Lun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erda Fay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y hace muy caliente! Fui a la playa. En la playa, tome el sol y nade. La agua fue muy fresca. No usa la crema protectora. Tengo muy tostad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4419720"/>
            <a:ext cx="3581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Script MT Bold"/>
              </a:rPr>
              <a:t>Mart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Madd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e muy buen tiempo! Fui a la captain duck tours con mi familia. Fue muy interesante! Despues de, fuimos a la playa. Tomamos el sol y buceamos. Es una dia muy buena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Script MT Bold"/>
              </a:rPr>
              <a:t>Miercol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erda El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tiempo esta muy mal. No fuimos a la playa hoy porque llueve. Fui a la Plaza Carolina con mi hermana, Maryssa. La plaza Carolina es muy grande y bonita! Compre un nuevo camisa, y las gafas de sol. Mi hermana compro los pantalones cortos y un traje de ban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n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81280" y="4419720"/>
            <a:ext cx="23623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Script MT Bold"/>
              </a:rPr>
              <a:t>Juev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Tia Lor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e sol y calliente! Fuimos a la Juanita Bananas, un resteraunte muy bien, por almuerzo. Tiene una salada muy grande. La comida fue muy delicioso y fresco. Despacha de, fui a la piscina con mi familia. Usamos la crema protectora y nadam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no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67080" y="396252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Script MT Bold"/>
              </a:rPr>
              <a:t>Viern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ida Tio Jo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tiempo esta muy bien! No esta nublado, hace sol y hace calor. Fui a la Dorado El Mar con Austin y Maryssa. La Dorado El mar es un campo de golf. Fue muy bien! Yo no gane, mi hermana, Maryssa gano! Despacha de, fui a la playa. Tenamos un picnic. Comamos un sandwich delicioso. Fue una dia muy bien!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 todo mi carin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n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441972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9:54Z</dcterms:created>
  <dc:creator>deboneeama</dc:creator>
  <dc:description/>
  <dc:language>en-US</dc:language>
  <cp:lastModifiedBy>deboneeama</cp:lastModifiedBy>
  <dcterms:modified xsi:type="dcterms:W3CDTF">2011-12-05T19:52:24Z</dcterms:modified>
  <cp:revision>16</cp:revision>
  <dc:subject/>
  <dc:title>Puerto Rico!</dc:title>
</cp:coreProperties>
</file>